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932-07AB-4A7E-8792-280ED809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5FC-D35C-4372-BC0E-0D5C9306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F7A-6EAC-485D-AF4E-B8670B9F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936-AAD2-40C8-8928-9FD2DE57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9F00-8191-4F18-88E1-3F9C131C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E01A-7E4F-4404-8177-3433E6A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86FC-C228-4B06-BAE4-70F1B17C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1F1B-4F25-412A-B996-034978F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4926-BA73-49F5-882E-A524E5F6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BAE-BBF8-4D66-B31E-DEEC4552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8BBF-8A7A-49D9-80A1-78273C0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55F-F9CE-4F86-9938-BED1110D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9D9-01E1-41E1-B13B-8EFFF93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BAC-30BC-4C0B-8DDF-09712B8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EE27-917C-44CF-8BD3-7846F700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0CE9-E98C-466E-AEFA-55869D0A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FC3E-6703-4D2E-A4E9-8F78A48A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DD6-DAF6-4102-8527-1FB1A637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FAD-0B52-4594-8A23-219A8615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96D-33A9-4AF1-A68E-8FFD4FC4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304-3478-4338-8989-A054E56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319-BB3A-4F56-AA9A-00EC704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202-C8B6-4C7F-8686-2D5D143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C16-A711-483C-8AD6-845FC64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8513-3879-495F-834A-3575BDE6061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2E77-DFBA-4A6E-B636-A27687D33C9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residents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 Christina Garc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the first president of the United States and commander and chief of the Revolu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president around the time the Constitution and the Bill of Rights were ma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president from 1789-179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December 14,179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ohn Adams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was a horrible preside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t from Virginia. (From Massachusett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in office from 1797-180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on July 4, 182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rved two terms as preside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Vice President for two years under George Washingt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a federali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Thomas Jeffers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the third president of the United Sta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office from 1801-18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rote the Declaration of Independence and helped with the Bill of Rights and Constitu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the Democrat Republicans and against Hamilton’s federalis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for small businesses and farm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d July 4,1826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ames Madis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office from 1809-181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president when the War of 1812 happen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cause they drawn the war after so long, they got respect from all of Europ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because Great Britain was the most powerful nation in the world at that time and if they could tie them in a war they must be pretty powerful themselv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d June 28, 183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ames Monroe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in office from 1817-18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ote the Monroe Doctrine stating that Europe could not interfere with North America nor South Americ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July 4, 183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3:50:02Z</dcterms:created>
  <dc:creator>Compaq_Owner</dc:creator>
  <dc:description/>
  <dc:language>en-US</dc:language>
  <cp:lastModifiedBy>Compaq_Owner</cp:lastModifiedBy>
  <dcterms:modified xsi:type="dcterms:W3CDTF">2008-04-26T16:19:50Z</dcterms:modified>
  <cp:revision>3</cp:revision>
  <dc:subject/>
  <dc:title>Presidents</dc:title>
</cp:coreProperties>
</file>